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53D-C57B-47B0-8EB7-65BDF84525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DE2-6B04-4647-93E2-EE9AE45B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89C-481B-4680-A6BB-92698159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94A-1BA3-4211-BD0A-D199A829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4DD-8165-4A8A-AC15-A10B5DB9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47BD-12B6-40A2-B540-0B618F9A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8F3F-2F16-4050-B098-3BB0DF84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1FDD-8F42-430D-9568-994D8BE8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67F1-5268-4A67-8D3F-582E6A3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C821-B262-43E3-9361-F4A99A4B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B387-D4EC-4988-9E6F-47987BB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E89A-A6F8-488C-84FC-1A3D53D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9AA-6238-409F-AC80-324A11E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A3CA-B236-4259-AD25-075BE91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107-C96E-4B4D-A20D-A176412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6BC-8C23-47E0-82E2-0F4892A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4184-4509-45C7-891B-C7BB71F0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4097-3727-4995-8A6D-5AE9E9EB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E4D-CC0A-4213-AB80-F9BEACD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31E-0949-4101-99AE-7BFAF7C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493-1BD6-4EE5-8F1C-125C737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E31-EF02-4146-AEE7-3033C52B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3F5-DE2F-499D-8CE5-617CF41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AA9-24F0-43EC-92C4-8ACBDD5F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01D-FBCB-4493-A988-C71828F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0D0-5CB6-43F4-85AF-201E0C0B99F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1EF-F910-48F8-9548-5A6CDFE27EF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86E-3BFA-41E8-BE61-7028D418444D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Microsoft</cp:lastModifiedBy>
  <dcterms:modified xsi:type="dcterms:W3CDTF">2010-05-10T11:28:29Z</dcterms:modified>
  <cp:revision>12</cp:revision>
  <dc:subject/>
  <dc:title>Internet</dc:title>
</cp:coreProperties>
</file>